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280B-A5D0-4BD3-86A6-CAA8E3F1D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6388-993C-4543-B8B3-1BC0B0134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B3DA-9515-4777-A3AD-118EBED61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0510-E446-477B-B315-8EEC18D8D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91987-92DB-4D79-935B-197060EF9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EF0B2-5A5F-4901-968A-F1AFE7CD9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3A0F0-B1BF-427F-9DD9-FE8DECD6F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AA732-94DC-4D88-BBFE-4919E73BE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FFC43-06B3-487E-B4F9-740146098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EF175-4946-4484-8503-951C0EB03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73448-1FFF-4607-8B2B-3FA9698E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52AA-674D-4DB0-85FC-7934DBFA6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B69B3-DA9C-49F1-8162-9F5C621C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B3034-60D0-4874-A19B-D59510660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83482-9E92-4D4C-84B5-F3FC65583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8A59A-82DB-460F-8203-E8C995F6E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E10C7-1733-4808-B8D7-3B674B276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AA860-903E-46E2-A7B2-40F8E6E85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B52E3-35A7-4CAD-B5F9-74270466B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84FC3-C8E6-41C5-87D9-3892627DB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45137-DDF6-4CA6-9E7A-ED8860AD9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4DC5E-5169-4010-97DE-FFD2CC409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5E9C-A986-43C1-9A0F-966003767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E66E3-DD4F-4080-8D2D-47B3C2D01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6769F-5D60-4C91-9A1F-7F9F33E4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62EE3-5CCA-479A-A614-E73EF8AFC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1A189-3572-4286-B63C-4FAF3A77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4A4D9-8AE7-4763-A4AA-D3C0052B9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FE24E-ADD7-4FBE-8644-B3D1181E3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D9BEE-F0C3-4392-A574-A9EC1B67F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EE149-D5FB-4ABE-9D53-DB5CBF9DE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7FF1B-F156-4342-A08E-A3247F1B9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D6F48-6AB7-4E66-9C74-421F30939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8F6D-050C-4A66-8F8C-FE5F65579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06925-A7DE-44F6-A960-C1A216F80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E39EF-5219-49F3-8D94-0F5599C22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F81E0-9144-4CA0-A5DE-CE1744173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E94CB-B440-4AE9-BD2C-4AC0E7938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F5F61-C94E-4DD1-9C61-45B6E888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0EADB-9418-4BF9-B1B1-BB159028F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27ED1-54B2-4347-9259-27D9386E2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43847-6F11-4FD3-8700-F045D9B51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D25BC-5AD9-4CE3-847D-E15D250EF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404DFD-8C9B-4E3B-991B-CBB859DF6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E517-7C99-41FB-9F48-9B7C01565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E81E56-6C0C-4465-B71A-168083380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FEBDD7-D707-4352-BEEC-68AA0B8A6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7EB8E-C936-4DB9-AFB7-D4CD0B673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ED576-50D2-4CBC-8F46-20783227C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226644-5173-4220-B71E-0F9074201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621A9-0B83-48EB-8282-0BE591BE6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04E46-F393-490B-AFD1-25E91F43D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09E06-D297-49F7-BFA4-C91558ADD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A33CB1-6A3F-4555-835D-7ECF060BD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DE08A4-8ED4-4D62-8DED-0F7D51A8F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1248-3BCA-4BD2-A755-09D483D8D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C5975F-A3AC-4766-991D-EB444511D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B094-3ED3-4C58-B083-41196C17B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D328-31E3-4408-B920-03A07666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F8EB-E1EA-4845-824A-BF7F13463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804E4-A15C-4BF2-841C-C51BDA3DBC4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A156C-7B78-48ED-BD7C-0DBC0A4ACE6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ADE1A-D19D-46EA-8F1D-46E472455AB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71423-D322-41ED-973F-2DEAA0AA0A9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E3B5A-E90D-429B-9890-F61D0398A40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464"/>
                </a:solidFill>
                <a:latin typeface="Perpetua"/>
              </a:rPr>
              <a:t>Sports Products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Franklin Gothic Book"/>
              </a:rPr>
              <a:t>Chapter 3</a:t>
            </a:r>
            <a:endParaRPr b="0" lang="en-US" sz="66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How much money would you pay for a season ticket to see your favorite sports team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464"/>
                </a:solidFill>
                <a:latin typeface="Franklin Gothic Book"/>
              </a:rPr>
              <a:t>Economic Impact of Sports Marketing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The Consumer and Sports Product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914400" y="1447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nderstanding the sports consumer helps marketers to create effective marketing plan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2" name="Title 1"/>
          <p:cNvSpPr/>
          <p:nvPr/>
        </p:nvSpPr>
        <p:spPr>
          <a:xfrm>
            <a:off x="914400" y="3094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ports Consumer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3" name="Content Placeholder 2"/>
          <p:cNvSpPr/>
          <p:nvPr/>
        </p:nvSpPr>
        <p:spPr>
          <a:xfrm>
            <a:off x="914400" y="42670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s a person who may play, officiate, watch, or listen to sports, or read, use, purchase, and/or collect items related to spor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464"/>
                </a:solidFill>
                <a:latin typeface="Franklin Gothic Book"/>
              </a:rPr>
              <a:t>To purchase a ticket or not purchase a ticket…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914400" y="14475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hat are some reasons a person would not buy a ticket to a sporting event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hat are some reasons a person would buy a ticket to a sporting event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6" name="Title 1"/>
          <p:cNvSpPr/>
          <p:nvPr/>
        </p:nvSpPr>
        <p:spPr>
          <a:xfrm>
            <a:off x="914400" y="358128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96464"/>
                </a:solidFill>
                <a:latin typeface="Franklin Gothic Book"/>
              </a:rPr>
              <a:t>The goal of planning marketing strategies is to encourage the consumer to act as a customer and purchase tickets or merchandise – this is the job of the sports marketing personnel!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onsumer Decision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914400" y="1447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31840" indent="-2318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nvironmental Factors – family and friends; society’s attitude and values; cultural differences; marketing influenc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31840" indent="-2318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dividual Factors – self-concept or self image, ability to play the spor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9" name="Title 1"/>
          <p:cNvSpPr/>
          <p:nvPr/>
        </p:nvSpPr>
        <p:spPr>
          <a:xfrm>
            <a:off x="914400" y="3124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Did you know? 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0" name="Content Placeholder 2"/>
          <p:cNvSpPr/>
          <p:nvPr/>
        </p:nvSpPr>
        <p:spPr>
          <a:xfrm>
            <a:off x="914400" y="4191120"/>
            <a:ext cx="7772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National Football League researchers have found that 60% of fans of any sport say they became fans by age 11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Market Segmentatio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914400" y="14475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40120" indent="-240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s a way of analyzing a market by specific characteristics to create a target marke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se characteristics include geographics, demographics, psychographics, and the products benefits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3" name="Title 1"/>
          <p:cNvSpPr/>
          <p:nvPr/>
        </p:nvSpPr>
        <p:spPr>
          <a:xfrm>
            <a:off x="914400" y="3094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Market Segmentation Shifts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4" name="Content Placeholder 2"/>
          <p:cNvSpPr/>
          <p:nvPr/>
        </p:nvSpPr>
        <p:spPr>
          <a:xfrm>
            <a:off x="914400" y="426708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Golf went from men ages 30 – 60, with an income of $50k - $175k to a new market of younger golfers…why do you think this is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Time Ou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914400" y="1447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hich new top athlete would you choose to appeal to teenagers or young adult consumers? Why?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ports Product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914400" y="1020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40120" indent="-240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Goods, services, ideas, or a combination of those things related to sports that provide satisfaction to the consume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rovide basic needs such as entertainment, sociability, or achievement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9" name="Title 1"/>
          <p:cNvSpPr/>
          <p:nvPr/>
        </p:nvSpPr>
        <p:spPr>
          <a:xfrm>
            <a:off x="914400" y="2637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Types of Sports Products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0" name="Content Placeholder 2"/>
          <p:cNvSpPr/>
          <p:nvPr/>
        </p:nvSpPr>
        <p:spPr>
          <a:xfrm>
            <a:off x="914400" y="3809880"/>
            <a:ext cx="7772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porting Even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ports Inform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ports Train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porting Good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Tangible Product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914400" y="1447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hysical goods that offer benefits to the consume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3" name="Title 1"/>
          <p:cNvSpPr/>
          <p:nvPr/>
        </p:nvSpPr>
        <p:spPr>
          <a:xfrm>
            <a:off x="914400" y="3094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Intangible Products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4" name="Content Placeholder 2"/>
          <p:cNvSpPr/>
          <p:nvPr/>
        </p:nvSpPr>
        <p:spPr>
          <a:xfrm>
            <a:off x="914400" y="42670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 nonphysical service such as tennis lessons, personal training, and sports camp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Product Lin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914400" y="1447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 group of closely related products manufactured and/or sold by a compan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7" name="Title 1"/>
          <p:cNvSpPr/>
          <p:nvPr/>
        </p:nvSpPr>
        <p:spPr>
          <a:xfrm>
            <a:off x="914400" y="3094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Product Mix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8" name="Content Placeholder 2"/>
          <p:cNvSpPr/>
          <p:nvPr/>
        </p:nvSpPr>
        <p:spPr>
          <a:xfrm>
            <a:off x="914400" y="426708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total assortment of products that a company makes and/or sell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6T00:10:21Z</dcterms:created>
  <dc:creator>Christina</dc:creator>
  <dc:description/>
  <dc:language>en-US</dc:language>
  <cp:lastModifiedBy>Christina</cp:lastModifiedBy>
  <dcterms:modified xsi:type="dcterms:W3CDTF">2012-02-16T00:49:20Z</dcterms:modified>
  <cp:revision>6</cp:revision>
  <dc:subject/>
  <dc:title>Chapter 3</dc:title>
</cp:coreProperties>
</file>